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8A36-E789-4BAC-8BFB-BE81D7C8E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48F6-0A2F-49D9-80F9-F8D715D0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0DDA-0EB5-4977-A7AF-4890E3327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B04D-409F-4589-8448-3C0E43482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EA29-C237-4CF7-B009-ED02007B7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6026-69EE-4A7A-B057-2347EC8F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90A9-040F-4492-BDE6-B4466082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2D8A0-AED1-4A12-8C66-70473CA7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816F-742D-4975-8EA8-B7880055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C572-1C28-4B85-888F-CA75D845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3B00-B184-4C23-99B1-2CBB6E74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259A-8A27-40BF-8E0B-67E4844B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2F29E-312E-4612-9FF1-F0954F98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3032-73D1-4388-93EE-1ACE0774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B151-7678-4278-85B5-BC5552A6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84B34-5E54-434F-8BB2-9AE22085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43D7-3078-4D39-8E2C-551D6F943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6F14-FF8B-4C0A-8BD3-A40B5B17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61D3-B88B-4AEA-8074-59F85C02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38E8-A324-41D6-B843-013880EC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30B6-0F77-4197-9588-5C0174AB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3D0A-C45B-46A4-AC2A-9D4B3E67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AE83-635C-4415-A5CD-94E933DC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5DD9-E436-417C-B778-41DD847D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1E23-372F-4E2B-933E-D29283A5918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92A7-3106-4D8F-A4D9-28F6928330B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.focus.in.ua/img/a/4/7/46374.jpg?124557100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1/Hamburg_Jungfernstieg_%281890-1900%29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6/Frauenkirche_M&#252;nchen_as_seen_from_St._Peter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7/Panorama_cologne_20050114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7/78/Koelner_Dom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7/7f/Skyline_Frankfurt_am_Main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7/7e/Dresden-Altstadt_von_der_Marienbruecke-II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roorel.ru/images/for_news/fotos/middle_e948ab3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d/db/Cityscapeberlin2006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e/ea/Berlin.svg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d/Brandenburgertor_SN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e/Berlin_-_Weltzeituhr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upload.wikimedia.org/wikipedia/commons/5/53/Berlin_Fernsehturm_2.jp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f/Berliner_Reichstag_im_Winter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upload.wikimedia.org/wikipedia/commons/6/69/Berlin_Rotes_Rathaus_2.jpg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d/Berlinermauer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447920" y="533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Города Германи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00600" y="58672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Выполнила ученица 7 « В»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Казакова Оле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i-main-pic" descr="Картинка 78 из 32536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1523880"/>
            <a:ext cx="5000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Файл:Hamburg Jungfernstieg (1890-1900)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89080" y="22860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Гамбур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533520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Портовый город расположенный у места впадения реки Эльбы в Северное мор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Население города составляет 1,7 млн. жителе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Файл:Frauenkirche München as seen from St. Pet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191120" y="380880"/>
            <a:ext cx="14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Мюнх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54100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ород на реке Изар на юге Германии, в федеральной земле Бавария. Свободный город (нем. </a:t>
            </a:r>
            <a:r>
              <a:rPr b="1" i="1" lang="de-DE" sz="1800" spc="-1" strike="noStrike">
                <a:solidFill>
                  <a:srgbClr val="ffff00"/>
                </a:solidFill>
                <a:latin typeface="Arial"/>
              </a:rPr>
              <a:t>kreisfreie Stadt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), одновременно являющийся столицей Баварии и административного округа Верхняя Бавар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селение Мюнхена — 1 364 980 челове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Файл:Panorama cologne 2005011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38862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657600" y="304920"/>
            <a:ext cx="11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Кёль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41911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Кёльн является четвёртым по населению и третьим по площади городом Германии, а также одним из крупнейших экономических и культурных центров стра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«Метрополия на Рейне», как часто называют Кёльн, — это один из старейших городов Герман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Файл:Koelner Dom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26708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572000" y="68580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Кёльн знаменит своим главным храмом -  Кёльнским собором, одним из главных католических храмов Герман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Файл:Skyline Frankfurt am Mai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52640" y="304920"/>
            <a:ext cx="357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Франкфурт - на - Май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5333760"/>
            <a:ext cx="786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Франкфурт расположен на обоих берегах Майн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Административно делится на 43 района и 118 городских округ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Численность населения —   1,5 млн. ч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Файл:Dresden-Altstadt von der Marienbruecke-II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815840" y="34452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Дрезд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51973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Является одним из крупнейших центров промышленности, транспорта и культуры Герман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Население 510 776 че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Занимает площадь 328,30 кв.к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Файл:Dresden-Frauenkirche-View.from.top.01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257800" y="3808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В немецкой литературе Дрезден получил название 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Флоренции на Эльбе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9480" y="609480"/>
            <a:ext cx="838224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ывод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Кроме столицы Германии – Берлина, крупнейшими городами являются также Гамбург, Мюнхен, Кёльн, Франкфурт -на – Майне и Дрезде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Население этих городов превышает 1 млн.челове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Они являются крупными промышленными, культурными центрами Германии и знамениты своими достопримечательностями, которые отражают многовековую историю страны, её особенности архитектуры и отличительные черты от других стран ми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38080" y="380880"/>
            <a:ext cx="754380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Информационные ресурс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http://ru.wikipedia.org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http://www.turizm.ru/germany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http://www.ongermany.ru/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2209680" y="2362320"/>
            <a:ext cx="4876920" cy="14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i-main-pic" descr="Картинка 90 из 34037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17680" y="722160"/>
            <a:ext cx="3139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едеративная республика Герма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РГ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; нем. </a:t>
            </a:r>
            <a:r>
              <a:rPr b="0" i="1" lang="de-DE" sz="1800" spc="-1" strike="noStrike">
                <a:solidFill>
                  <a:srgbClr val="ffff00"/>
                </a:solidFill>
                <a:latin typeface="Arial"/>
              </a:rPr>
              <a:t>Deutschland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или </a:t>
            </a:r>
            <a:r>
              <a:rPr b="0" i="1" lang="de-DE" sz="1800" spc="-1" strike="noStrike">
                <a:solidFill>
                  <a:srgbClr val="ffff00"/>
                </a:solidFill>
                <a:latin typeface="Arial"/>
              </a:rPr>
              <a:t>Bundesrepublik Deutschland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) — государство в Центральной Европе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Файл:Cityscapeberlin200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058840" y="685800"/>
            <a:ext cx="45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Столица Германии – Берли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Файл:Berlin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0"/>
            <a:ext cx="6781680" cy="4584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28600" y="5029200"/>
            <a:ext cx="51055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Берлин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(нем. </a:t>
            </a:r>
            <a:r>
              <a:rPr b="1" i="1" lang="de-DE" sz="1800" spc="-1" strike="noStrike">
                <a:solidFill>
                  <a:srgbClr val="ffff00"/>
                </a:solidFill>
                <a:latin typeface="Arial"/>
              </a:rPr>
              <a:t>Berlin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) - самый большой город Германии как по количеству населения, так и по площад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лощадь — 892 кв. к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селение- 3 420 786 челове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Файл:Brandenburgertor S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07000" y="316080"/>
            <a:ext cx="46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Достопримечательности Берлина: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304812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Бранденбургские вор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Файл:Berlin - Weltzeituh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41972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Файл:Berlin Fernsehturm 2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V="1" rot="10827600">
            <a:off x="2280600" y="61722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Часы мира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66720" y="87480"/>
            <a:ext cx="159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Телебаш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Файл:Berliner Reichstag im Wint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505320"/>
            <a:ext cx="4724280" cy="33526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Файл:Berlin Rotes Rathaus 2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24280" y="0"/>
            <a:ext cx="4419720" cy="35258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914400" y="2743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Рейхста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49040" y="3773520"/>
            <a:ext cx="26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Красная ратуш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9" name="" descr="Файл:Berlinermau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07080" y="826920"/>
            <a:ext cx="33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Берлинская сте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i-main-pic" descr="Картинка 38 из 339090"/>
          <p:cNvPicPr/>
          <p:nvPr/>
        </p:nvPicPr>
        <p:blipFill>
          <a:blip r:embed="rId1"/>
          <a:stretch/>
        </p:blipFill>
        <p:spPr>
          <a:xfrm>
            <a:off x="4738680" y="1600200"/>
            <a:ext cx="4405320" cy="5257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80880" y="304920"/>
            <a:ext cx="803772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Крупнейшие город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Гамбург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Мюнхен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Кёльн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Франкфурт - на – Майн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Дрезде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_08</cp:lastModifiedBy>
  <dcterms:modified xsi:type="dcterms:W3CDTF">2009-10-23T10:51:1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